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3BA4-1DF7-4396-B404-5DE6DC49B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DEC3-3860-409E-B10E-A74565C32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892C-B351-4D94-AD5D-9E8C039F7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2731-4B1E-48D7-81A3-6E9C56BFF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1DDDA-CABF-40F8-8318-ABBE72D00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E32AF-1BE8-4E10-8AC4-13FA500D4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B2989-FFF8-4622-B2D9-70653CC17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85F10-78D5-4E5B-BD91-3F0CFE801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BE7D0-32BA-45AB-A5B7-D160C68D7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B1979-DAE6-41A2-9854-F4253386C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24D11-AF3B-414A-81E4-373F40713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402A-9558-4C37-8B51-3AF2ABB55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4CC7D-11A2-4E3E-BF30-1D600E322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F00ED-087D-4D89-B71C-59845C583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AF1D9-78AA-45BF-8EAD-C33F5AA0F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0827C-C47F-4359-AB22-48186B2E5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734FB-745F-4057-A14B-2BDE0CAFD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CB91-263E-4950-8ABC-ED7C2C030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C395-ECB2-4EFB-9064-1FEDBF4C2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5F9B-3249-4007-BB7A-062AF9F55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4221-0443-46BB-983A-6849CD873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7783-4F7D-4631-B33C-A8DFD3D38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BF0D-4253-4978-922C-98B67D9AF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DD35-14F2-40C7-B753-B5DD1AEA8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0A7B8-E897-495A-B8A3-DB61DC48E970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E14F3-627B-45AD-BFE8-58BB5F16EB00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Jar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y Persona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Learning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Profil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My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Learning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Profil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cc00"/>
                </a:solidFill>
                <a:latin typeface="Arial Black"/>
              </a:rPr>
              <a:t>My learning style is Tactile/kinethetic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cc00"/>
                </a:solidFill>
                <a:latin typeface="Arial Black"/>
              </a:rPr>
              <a:t>This means that I learn best by doing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cc00"/>
                </a:solidFill>
                <a:latin typeface="Arial Black"/>
              </a:rPr>
              <a:t>My learning technique is Abstract Sequential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cc00"/>
                </a:solidFill>
                <a:latin typeface="Arial Black"/>
              </a:rPr>
              <a:t>That means that I am imaginative, orderly, logical, and analytical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cc00"/>
                </a:solidFill>
                <a:latin typeface="Arial Black"/>
              </a:rPr>
              <a:t>My intelligence Type Is Physical Awarnes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cc00"/>
                </a:solidFill>
                <a:latin typeface="Arial Black"/>
              </a:rPr>
              <a:t>That means that I am very well coordinated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0958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Page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fcc00"/>
                </a:solidFill>
                <a:latin typeface="Arial Black"/>
              </a:rPr>
              <a:t>I found out that the left hemisphere of my brain is  the smarter part of my brai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fcc00"/>
                </a:solidFill>
                <a:latin typeface="Arial Black"/>
              </a:rPr>
              <a:t>and the right hemisphere of my brain is kinda the dumber part of my brai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fcc00"/>
                </a:solidFill>
                <a:latin typeface="Arial Black"/>
              </a:rPr>
              <a:t>It’s important to learn how your brain works because  if you have hard homework you can use it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18:05:56Z</dcterms:created>
  <dc:creator>student</dc:creator>
  <dc:description/>
  <dc:language>en-US</dc:language>
  <cp:lastModifiedBy>student</cp:lastModifiedBy>
  <dcterms:modified xsi:type="dcterms:W3CDTF">2010-10-27T17:50:08Z</dcterms:modified>
  <cp:revision>9</cp:revision>
  <dc:subject/>
  <dc:title>Jaron</dc:title>
</cp:coreProperties>
</file>